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9400" y="1531440"/>
            <a:ext cx="8675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An Introduction to Metabolism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5DC-F8A5-43D8-BDA9-5E8B0DFB1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energy associated with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ored in the location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hemical energy stored in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CA1F-1FBD-4E4D-A713-085F9B8921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be conver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one form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19000" y="1978200"/>
            <a:ext cx="6282000" cy="4499280"/>
            <a:chOff x="1719000" y="1978200"/>
            <a:chExt cx="6282000" cy="4499280"/>
          </a:xfrm>
        </p:grpSpPr>
        <p:grpSp>
          <p:nvGrpSpPr>
            <p:cNvPr id="219" name=""/>
            <p:cNvGrpSpPr/>
            <p:nvPr/>
          </p:nvGrpSpPr>
          <p:grpSpPr>
            <a:xfrm>
              <a:off x="2890080" y="1978200"/>
              <a:ext cx="5110920" cy="4499280"/>
              <a:chOff x="2890080" y="1978200"/>
              <a:chExt cx="5110920" cy="44992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571840"/>
                <a:ext cx="3022560" cy="309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"/>
              <p:cNvGrpSpPr/>
              <p:nvPr/>
            </p:nvGrpSpPr>
            <p:grpSpPr>
              <a:xfrm>
                <a:off x="2890080" y="1978200"/>
                <a:ext cx="5110920" cy="4499280"/>
                <a:chOff x="2890080" y="1978200"/>
                <a:chExt cx="5110920" cy="44992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967120" y="5765760"/>
                  <a:ext cx="190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82400" y="1978200"/>
                  <a:ext cx="19969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the platform, a d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as more potential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0000" y="2455920"/>
                  <a:ext cx="178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11880" y="1981080"/>
                  <a:ext cx="25891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ving converts poten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to kinetic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84960" y="2455920"/>
                  <a:ext cx="160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59120" y="2455920"/>
                  <a:ext cx="430200" cy="129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5524560" y="2455920"/>
                  <a:ext cx="790560" cy="1654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90080" y="5745240"/>
                  <a:ext cx="2148120" cy="73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imbing up converts kinet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of muscle movem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 potential energy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111480" y="4686480"/>
                  <a:ext cx="158112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976280" y="5746680"/>
                  <a:ext cx="18187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e water, a diver h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 potential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05520" y="5765760"/>
                  <a:ext cx="152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5351400" y="5405040"/>
                  <a:ext cx="28728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171900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445E-D7F3-40F8-88F1-306A64E897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aws of Energy Transform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tudy of energy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EE3-8DFD-4CA4-A701-677D6F7A7C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First Law of Thermo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the first law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 be transferred and trans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5717-6413-44EF-9692-0C4FB92CAF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 of energy conver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18520" y="2039760"/>
            <a:ext cx="4242600" cy="3677400"/>
            <a:chOff x="2018520" y="2039760"/>
            <a:chExt cx="4242600" cy="3677400"/>
          </a:xfrm>
        </p:grpSpPr>
        <p:sp>
          <p:nvSpPr>
            <p:cNvPr id="245" name=""/>
            <p:cNvSpPr/>
            <p:nvPr/>
          </p:nvSpPr>
          <p:spPr>
            <a:xfrm>
              <a:off x="2018520" y="54115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3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5480" y="4694400"/>
              <a:ext cx="2494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st law of thermodynamics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ergy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 be transferred or transformed bu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ither created nor destroyed. F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ample, the chemical (potential) energ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food will be converted to the kinet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ergy of the cheetah’s movement in (b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31720" y="469260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346560" y="2039760"/>
              <a:ext cx="2914560" cy="26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325480" y="271764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099040" y="2953800"/>
              <a:ext cx="30492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5A2B-8EC7-4C67-915E-CAECB7F11D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Second Law of Thermo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the second law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6376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ntaneous changes that do not require outside energy increase the entropy, or disorder, of the un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29280" y="3114720"/>
            <a:ext cx="7332120" cy="3381840"/>
            <a:chOff x="629280" y="3114720"/>
            <a:chExt cx="7332120" cy="3381840"/>
          </a:xfrm>
        </p:grpSpPr>
        <p:sp>
          <p:nvSpPr>
            <p:cNvPr id="255" name=""/>
            <p:cNvSpPr/>
            <p:nvPr/>
          </p:nvSpPr>
          <p:spPr>
            <a:xfrm>
              <a:off x="629280" y="6190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3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81880" y="5780160"/>
              <a:ext cx="4997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ond law of thermodynamics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very energy transfer or transformation increa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disorder (entropy) of the universe. For example, disorder is added to the cheetah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roundings in the form of heat and the small molecules that are the by-produ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metabolis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1920" y="5783400"/>
              <a:ext cx="348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1943280" y="3114720"/>
              <a:ext cx="601812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546880" y="3724560"/>
              <a:ext cx="51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0080" y="3773880"/>
              <a:ext cx="411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3240" y="4231080"/>
              <a:ext cx="462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81040" y="40287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71B-DA0C-49DD-A9A0-37BB3483CF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Biological Order and Disord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ing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entropy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nergy to mainta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15760" y="2590560"/>
            <a:ext cx="5029560" cy="3658320"/>
            <a:chOff x="1715760" y="2590560"/>
            <a:chExt cx="5029560" cy="3658320"/>
          </a:xfrm>
        </p:grpSpPr>
        <p:grpSp>
          <p:nvGrpSpPr>
            <p:cNvPr id="267" name=""/>
            <p:cNvGrpSpPr/>
            <p:nvPr/>
          </p:nvGrpSpPr>
          <p:grpSpPr>
            <a:xfrm>
              <a:off x="2819520" y="2590560"/>
              <a:ext cx="3925800" cy="3611880"/>
              <a:chOff x="2819520" y="2590560"/>
              <a:chExt cx="3925800" cy="3611880"/>
            </a:xfrm>
          </p:grpSpPr>
          <p:pic>
            <p:nvPicPr>
              <p:cNvPr id="2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2819520"/>
                <a:ext cx="3925800" cy="33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6073200" y="2590560"/>
                <a:ext cx="63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µ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1715760" y="59432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B65-1E2F-4767-88E7-A3D683F8C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2: The free-energy change of a reaction tells us whether the reaction occurs spontaneou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F23-B913-4E1F-9478-6CD1B4C72F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ree-Energy Change, </a:t>
            </a:r>
            <a:r>
              <a:rPr b="1" i="1" lang="en-US" sz="3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ving system’s fre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nergy that can do work under cellula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A16-DC74-4447-BF73-2D5E806A5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ange in free energy, ∆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a biologica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lated directly to the enthalpy change (∆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 change i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" y="3123720"/>
            <a:ext cx="304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556-2411-41A6-94B1-BA1D3105D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Energy of Lif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ving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iniature factory where thousands of reactions occ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energy 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526-A54A-48D1-80CE-9E59186813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ee Energy, Stability, and Equilibriu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ms live at the expense of fre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a spontaneous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energy decreases and the stability of a system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4C5-CF98-489D-B6BF-70B2E2CB3A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maximum sta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ystem is at equilibri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0920" y="2133720"/>
            <a:ext cx="8816760" cy="4258080"/>
            <a:chOff x="250920" y="2133720"/>
            <a:chExt cx="8816760" cy="4258080"/>
          </a:xfrm>
        </p:grpSpPr>
        <p:grpSp>
          <p:nvGrpSpPr>
            <p:cNvPr id="288" name=""/>
            <p:cNvGrpSpPr/>
            <p:nvPr/>
          </p:nvGrpSpPr>
          <p:grpSpPr>
            <a:xfrm>
              <a:off x="250920" y="2133720"/>
              <a:ext cx="8816760" cy="4114800"/>
              <a:chOff x="250920" y="2133720"/>
              <a:chExt cx="8816760" cy="411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7408800" y="5546880"/>
                <a:ext cx="16588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hemical reaction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, a sugar molecule is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broken down into simple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250920" y="2133720"/>
                <a:ext cx="8534160" cy="4114800"/>
                <a:chOff x="250920" y="2133720"/>
                <a:chExt cx="8534160" cy="4114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002680" y="4230720"/>
                  <a:ext cx="2232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0920" y="2133720"/>
                  <a:ext cx="8534160" cy="308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" name=""/>
                <p:cNvSpPr/>
                <p:nvPr/>
              </p:nvSpPr>
              <p:spPr>
                <a:xfrm>
                  <a:off x="5661000" y="5546880"/>
                  <a:ext cx="2077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iffusion.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olecules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 a drop of dye diffuse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ntil they are randomly dispersed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144600" y="5530680"/>
                  <a:ext cx="1917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ravitational motion.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ve spontaneously from 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igher altitude to a lower on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9200" y="2224080"/>
                  <a:ext cx="18320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re free energy (higher 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reater work capac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0560" y="5027760"/>
                  <a:ext cx="17636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free energy (lower 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re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work capac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160" y="3297240"/>
                  <a:ext cx="216288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 a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pontaneously chang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free energy of the system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decreases (∆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&lt;0)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system becomes more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released free energy c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e harnessed to do work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3560" y="5516640"/>
                  <a:ext cx="34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0240" y="5540400"/>
                  <a:ext cx="34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03600" y="5532480"/>
                  <a:ext cx="34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403920" y="608616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5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0C7-F7EE-409F-A599-3DE688074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ee Energy and Metabol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333-FF62-4EB2-83F7-5EEC3F1260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33399"/>
                </a:solidFill>
                <a:latin typeface="Times New Roman"/>
              </a:rPr>
              <a:t>Exergonic and Endergonic Reactions in Metabolism</a:t>
            </a:r>
            <a:endParaRPr b="1" lang="en-US" sz="29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ergonic re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s with a net release of free energy and is 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97840" y="2743200"/>
            <a:ext cx="7065000" cy="3429360"/>
            <a:chOff x="897840" y="2743200"/>
            <a:chExt cx="7065000" cy="3429360"/>
          </a:xfrm>
        </p:grpSpPr>
        <p:sp>
          <p:nvSpPr>
            <p:cNvPr id="308" name=""/>
            <p:cNvSpPr/>
            <p:nvPr/>
          </p:nvSpPr>
          <p:spPr>
            <a:xfrm>
              <a:off x="1050840" y="5638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7840" y="5866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176560" y="2743200"/>
              <a:ext cx="5786280" cy="3062160"/>
              <a:chOff x="2176560" y="2743200"/>
              <a:chExt cx="5786280" cy="3062160"/>
            </a:xfrm>
          </p:grpSpPr>
          <p:pic>
            <p:nvPicPr>
              <p:cNvPr id="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6560" y="2743200"/>
                <a:ext cx="5786280" cy="30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706840" y="283356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cta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70840" y="4524480"/>
                <a:ext cx="846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85160" y="4314960"/>
                <a:ext cx="58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42400" y="5502240"/>
                <a:ext cx="1809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gress of the rea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62600" y="3462480"/>
                <a:ext cx="91404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mount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leased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1865880" y="4222800"/>
                <a:ext cx="1009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e 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100240" y="5867280"/>
              <a:ext cx="304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Exergonic reaction: energy relea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FE5-A810-467D-85EB-5581D2001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dergonic rea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one that absorbs free energy from its surroundings and is nonspontaneo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69240" y="2666880"/>
            <a:ext cx="7300080" cy="3567600"/>
            <a:chOff x="669240" y="2666880"/>
            <a:chExt cx="7300080" cy="3567600"/>
          </a:xfrm>
        </p:grpSpPr>
        <p:sp>
          <p:nvSpPr>
            <p:cNvPr id="323" name=""/>
            <p:cNvSpPr/>
            <p:nvPr/>
          </p:nvSpPr>
          <p:spPr>
            <a:xfrm>
              <a:off x="669240" y="59288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1884240" y="2666880"/>
              <a:ext cx="608508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898440" y="431496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12520" y="2819520"/>
              <a:ext cx="846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7720" y="3625920"/>
              <a:ext cx="883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ease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5320" y="4572000"/>
              <a:ext cx="91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7000" y="5592600"/>
              <a:ext cx="1809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ess of the re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1593360" y="424980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e 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90280" y="5943600"/>
              <a:ext cx="3146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Endergonic reaction: energy requi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3DA-4FF6-470D-BC90-CE6B9D8551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quilibrium and Metabol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ions in a clo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reach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080720" y="2971800"/>
            <a:ext cx="6477120" cy="2300760"/>
            <a:chOff x="1080720" y="2971800"/>
            <a:chExt cx="6477120" cy="2300760"/>
          </a:xfrm>
        </p:grpSpPr>
        <p:grpSp>
          <p:nvGrpSpPr>
            <p:cNvPr id="336" name=""/>
            <p:cNvGrpSpPr/>
            <p:nvPr/>
          </p:nvGrpSpPr>
          <p:grpSpPr>
            <a:xfrm>
              <a:off x="1080720" y="2971800"/>
              <a:ext cx="6477120" cy="2300760"/>
              <a:chOff x="1080720" y="2971800"/>
              <a:chExt cx="6477120" cy="2300760"/>
            </a:xfrm>
          </p:grpSpPr>
          <p:sp>
            <p:nvSpPr>
              <p:cNvPr id="337" name=""/>
              <p:cNvSpPr/>
              <p:nvPr/>
            </p:nvSpPr>
            <p:spPr>
              <a:xfrm>
                <a:off x="1080720" y="4966920"/>
                <a:ext cx="12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8.7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0760" y="2971800"/>
                <a:ext cx="4292640" cy="16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2265840" y="4618080"/>
                <a:ext cx="52920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A closed hydroelectric system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Water flowing downhill turns a turbin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at drives a generator providing electricity to a light bulb, but only until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system reaches equilibrium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722760" y="3138480"/>
              <a:ext cx="65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&l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2280" y="3154320"/>
              <a:ext cx="65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B2D-4144-4DA4-BBB1-A2F7ADDFD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in ou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a constant flow of materials in and out, preventing metabolic pathways from reaching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201760" y="3276720"/>
            <a:ext cx="4443480" cy="2243160"/>
            <a:chOff x="2201760" y="3276720"/>
            <a:chExt cx="4443480" cy="2243160"/>
          </a:xfrm>
        </p:grpSpPr>
        <p:sp>
          <p:nvSpPr>
            <p:cNvPr id="346" name=""/>
            <p:cNvSpPr/>
            <p:nvPr/>
          </p:nvSpPr>
          <p:spPr>
            <a:xfrm>
              <a:off x="2421720" y="50054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201760" y="3276720"/>
              <a:ext cx="4443480" cy="2243160"/>
              <a:chOff x="2201760" y="3276720"/>
              <a:chExt cx="4443480" cy="224316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360" y="3276720"/>
                <a:ext cx="222588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2201760" y="3767400"/>
                <a:ext cx="225468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An open hydroelectric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system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Flowing wate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keeps driving the generato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because intake and outflow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of water keep the system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from reaching equlibrium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76760" y="381024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B353-61A3-4EDA-978A-619740296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ogy for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21520" y="1967040"/>
            <a:ext cx="6980760" cy="3901320"/>
            <a:chOff x="821520" y="1967040"/>
            <a:chExt cx="6980760" cy="3901320"/>
          </a:xfrm>
        </p:grpSpPr>
        <p:sp>
          <p:nvSpPr>
            <p:cNvPr id="355" name=""/>
            <p:cNvSpPr/>
            <p:nvPr/>
          </p:nvSpPr>
          <p:spPr>
            <a:xfrm>
              <a:off x="821520" y="4723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153520" y="1967040"/>
              <a:ext cx="5648760" cy="3901320"/>
              <a:chOff x="2153520" y="1967040"/>
              <a:chExt cx="5648760" cy="3901320"/>
            </a:xfrm>
          </p:grpSpPr>
          <p:pic>
            <p:nvPicPr>
              <p:cNvPr id="3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32040" y="1967040"/>
                <a:ext cx="4352400" cy="27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2153520" y="4710240"/>
                <a:ext cx="564876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c) A multistep open hydroelectric system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ellular respiration i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analogous to this system: Glucoce is brocken down in a serie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of exergonic reactions that power the work of the cell. The produc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of each reaction becomes the reactant for the next, so no reaction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reaches equilibrium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4680" y="236160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71600" y="257580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43320" y="286308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4AC-157F-4DC1-B614-7F8D253063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3: ATP powers cellular work by coupling exergonic reactions to endergonic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 does three main kinds of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DE51-4778-4D7D-984B-4FA018A93C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key feature in the way cells manage their energy resources to do 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3590-3F25-49D8-8FC4-39DFEAE10B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organis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nergy to light, as in biolumin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87120" y="2209680"/>
            <a:ext cx="6708600" cy="4191480"/>
            <a:chOff x="987120" y="2209680"/>
            <a:chExt cx="6708600" cy="41914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09680" y="2209680"/>
              <a:ext cx="54860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87120" y="6095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5496-C164-4DB5-A65B-0D3998D5B3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ructure and Hydrolysis of ATP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P (adenosine triphosph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ell’s energy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ergy for cellul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05520" y="3124440"/>
            <a:ext cx="7520040" cy="2909880"/>
            <a:chOff x="605520" y="3124440"/>
            <a:chExt cx="7520040" cy="2909880"/>
          </a:xfrm>
        </p:grpSpPr>
        <p:sp>
          <p:nvSpPr>
            <p:cNvPr id="372" name=""/>
            <p:cNvSpPr/>
            <p:nvPr/>
          </p:nvSpPr>
          <p:spPr>
            <a:xfrm>
              <a:off x="605520" y="57146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1697040" y="3406680"/>
              <a:ext cx="61880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742760" y="44640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8920" y="4479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3440" y="4373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92280" y="44654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4960" y="44640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1080" y="448020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00360" y="539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5560" y="5759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6120" y="5759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86200" y="550116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87920" y="42973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1400" y="51505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9600" y="51505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64120" y="46162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78280" y="4387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97320" y="42973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95320" y="4035240"/>
              <a:ext cx="40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8280" y="3682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00560" y="37497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81440" y="3625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49720" y="3794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47240" y="315612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54680" y="312444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05880" y="5424840"/>
              <a:ext cx="81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41640" y="5348520"/>
              <a:ext cx="183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hosphate grou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5440" y="4875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8040" y="40845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7920" y="4068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6120" y="4968000"/>
              <a:ext cx="30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01960" y="4068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1960" y="4875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13880" y="434304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684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492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300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20920" y="4206960"/>
              <a:ext cx="40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431-95AA-43AA-8402-5F8E4DB006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ergy is released from 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the terminal phosphate bond is brok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910440" y="1981080"/>
            <a:ext cx="7322400" cy="4434480"/>
            <a:chOff x="910440" y="1981080"/>
            <a:chExt cx="7322400" cy="4434480"/>
          </a:xfrm>
        </p:grpSpPr>
        <p:sp>
          <p:nvSpPr>
            <p:cNvPr id="414" name=""/>
            <p:cNvSpPr/>
            <p:nvPr/>
          </p:nvSpPr>
          <p:spPr>
            <a:xfrm>
              <a:off x="910440" y="6109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2598840" y="1981080"/>
              <a:ext cx="563400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114440" y="25732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0280" y="3367440"/>
              <a:ext cx="290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osine triphosphate (AT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50400" y="408708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9120" y="50907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86320" y="5075640"/>
              <a:ext cx="82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9440" y="6066000"/>
              <a:ext cx="202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organic phosph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04000" y="60519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osine diphosphate (AD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46080" y="25686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8400" y="25686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1200" y="514044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4880" y="514044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60680" y="5127120"/>
              <a:ext cx="407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  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756-037C-49D9-AC81-64A1CC410D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P hydro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4824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be coupled to other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6720" y="1801080"/>
            <a:ext cx="7879680" cy="4871880"/>
            <a:chOff x="576720" y="1801080"/>
            <a:chExt cx="7879680" cy="4871880"/>
          </a:xfrm>
        </p:grpSpPr>
        <p:grpSp>
          <p:nvGrpSpPr>
            <p:cNvPr id="432" name=""/>
            <p:cNvGrpSpPr/>
            <p:nvPr/>
          </p:nvGrpSpPr>
          <p:grpSpPr>
            <a:xfrm>
              <a:off x="1725840" y="1801080"/>
              <a:ext cx="6730560" cy="4871880"/>
              <a:chOff x="1725840" y="1801080"/>
              <a:chExt cx="6730560" cy="48718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3360" y="2522520"/>
                <a:ext cx="6408720" cy="311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1915920" y="1801080"/>
                <a:ext cx="38887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ergonic reaction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∆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positive, rea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not spontaneou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89360" y="3192840"/>
                <a:ext cx="1901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+3.4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81240" y="3261240"/>
                <a:ext cx="50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l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35840" y="3242160"/>
                <a:ext cx="50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l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99080" y="5029560"/>
                <a:ext cx="1957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+ 7.3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75840" y="5074200"/>
                <a:ext cx="579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11920" y="5052600"/>
                <a:ext cx="553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84320" y="507708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81000" y="3192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85440" y="3101760"/>
                <a:ext cx="5432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8040" y="503928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29240" y="50342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215680" y="2601720"/>
                <a:ext cx="5432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94760" y="3590640"/>
                <a:ext cx="889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tam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16600" y="360036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mon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64760" y="3589200"/>
                <a:ext cx="99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tami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64440" y="4287600"/>
                <a:ext cx="38898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ergonic reaction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∆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negative, rea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spontaneous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31800" y="503424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25840" y="5941080"/>
                <a:ext cx="3667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upled reactions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Overall ∆G is negative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ogether, reactions are spontaneou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87120" y="5987880"/>
                <a:ext cx="198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–3.9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76720" y="608148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27FE-F344-45BE-9AFF-A4E348DA9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ow ATP Performs Work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P drives endergonic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hosphorylation, transferring a phosphate to oth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433-98D2-406F-9463-29DF53C7DB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types of cellular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60000"/>
              </a:lnSpc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powered by the hydrolysis of 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13320" y="1738440"/>
            <a:ext cx="6717240" cy="4722480"/>
            <a:chOff x="913320" y="1738440"/>
            <a:chExt cx="6717240" cy="4722480"/>
          </a:xfrm>
        </p:grpSpPr>
        <p:grpSp>
          <p:nvGrpSpPr>
            <p:cNvPr id="462" name=""/>
            <p:cNvGrpSpPr/>
            <p:nvPr/>
          </p:nvGrpSpPr>
          <p:grpSpPr>
            <a:xfrm>
              <a:off x="1828800" y="1738440"/>
              <a:ext cx="5801760" cy="4722480"/>
              <a:chOff x="1828800" y="1738440"/>
              <a:chExt cx="5801760" cy="4722480"/>
            </a:xfrm>
          </p:grpSpPr>
          <p:pic>
            <p:nvPicPr>
              <p:cNvPr id="4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738440"/>
                <a:ext cx="5618160" cy="471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2762640" y="6216120"/>
                <a:ext cx="342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) Chemical work: ATP phosphorylates key reacta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852560" y="1958040"/>
                <a:ext cx="5778000" cy="4231440"/>
                <a:chOff x="1852560" y="1958040"/>
                <a:chExt cx="5778000" cy="42314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806280" y="220032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4040" y="3276000"/>
                  <a:ext cx="7884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mbra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3106800" y="3591360"/>
                  <a:ext cx="603000" cy="26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04880" y="2752200"/>
                  <a:ext cx="928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tor prote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3633120" y="2462400"/>
                  <a:ext cx="30456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54400" y="1958040"/>
                  <a:ext cx="1850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881680" y="202896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084640" y="2763360"/>
                  <a:ext cx="9990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mov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760840" y="2925000"/>
                  <a:ext cx="36262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 Mechanical work: ATP phosphorylates motor protei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852560" y="3643200"/>
                  <a:ext cx="53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737800" y="4503240"/>
                  <a:ext cx="3740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b) Transport work: ATP phosphorylates transport protei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342240" y="4263480"/>
                  <a:ext cx="6195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olu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810240" y="4215600"/>
                  <a:ext cx="63720" cy="14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020840" y="402552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945400" y="401544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321160" y="4297320"/>
                  <a:ext cx="82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nsport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14360" y="4297320"/>
                  <a:ext cx="541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olu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9520" y="5291280"/>
                  <a:ext cx="462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158440" y="5442840"/>
                  <a:ext cx="4622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70080" y="5241600"/>
                  <a:ext cx="453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49800" y="5071680"/>
                  <a:ext cx="453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57840" y="527400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243920" y="380880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699720" y="523944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22040" y="522900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016800" y="5781600"/>
                  <a:ext cx="16254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actants: Glutamic acid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d ammon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996800" y="5792400"/>
                  <a:ext cx="12870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duct (glutamin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a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31600" y="3488400"/>
                  <a:ext cx="498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7080" y="363384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3450600" y="4999320"/>
                <a:ext cx="268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913320" y="61290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FCB8-AF90-4712-A0E1-F255BA4C8C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egeneration of ATP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 regeneration of ATP from ADP and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81480" y="2600280"/>
            <a:ext cx="7324200" cy="4028760"/>
            <a:chOff x="681480" y="2600280"/>
            <a:chExt cx="7324200" cy="4028760"/>
          </a:xfrm>
        </p:grpSpPr>
        <p:grpSp>
          <p:nvGrpSpPr>
            <p:cNvPr id="501" name=""/>
            <p:cNvGrpSpPr/>
            <p:nvPr/>
          </p:nvGrpSpPr>
          <p:grpSpPr>
            <a:xfrm>
              <a:off x="1035000" y="2600280"/>
              <a:ext cx="6970680" cy="4028760"/>
              <a:chOff x="1035000" y="2600280"/>
              <a:chExt cx="6970680" cy="40287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866960" y="2616120"/>
                <a:ext cx="2641680" cy="482400"/>
                <a:chOff x="1866960" y="2616120"/>
                <a:chExt cx="2641680" cy="4824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438280" y="2857320"/>
                  <a:ext cx="177840" cy="1778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866960" y="2616120"/>
                  <a:ext cx="264168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P synthesis  from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 +  P 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requires 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035000" y="3009240"/>
                <a:ext cx="6970680" cy="3619800"/>
                <a:chOff x="1035000" y="3009240"/>
                <a:chExt cx="6970680" cy="3619800"/>
              </a:xfrm>
            </p:grpSpPr>
            <p:pic>
              <p:nvPicPr>
                <p:cNvPr id="50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98680" y="3401640"/>
                  <a:ext cx="6426000" cy="28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7" name=""/>
                <p:cNvSpPr/>
                <p:nvPr/>
              </p:nvSpPr>
              <p:spPr>
                <a:xfrm>
                  <a:off x="4570560" y="364428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3123720" y="3161520"/>
                  <a:ext cx="762120" cy="1143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5791320" y="3009240"/>
                  <a:ext cx="1143000" cy="1523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261320" y="5964840"/>
                  <a:ext cx="106272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P +  P  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00600" y="582912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4530600" y="6171840"/>
                  <a:ext cx="270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 rot="10800000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035000" y="300960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25120" y="5384520"/>
                  <a:ext cx="17805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for cellular w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endergonic, energy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suming process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45200" y="5376600"/>
                  <a:ext cx="2012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from catabolis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exergonic, energy yield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cess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5956920" y="2600280"/>
                <a:ext cx="1823040" cy="482400"/>
                <a:chOff x="5956920" y="2600280"/>
                <a:chExt cx="1823040" cy="482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53080" y="2855520"/>
                  <a:ext cx="152640" cy="1526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956920" y="2600280"/>
                  <a:ext cx="18230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P hydrolysis t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 +  P 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yields 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9" name=""/>
            <p:cNvSpPr/>
            <p:nvPr/>
          </p:nvSpPr>
          <p:spPr>
            <a:xfrm>
              <a:off x="681480" y="60955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2CFB-6185-4A09-95E9-C088E261C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4: Enzymes speed up metabolic reactions by lowering energy b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ataly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hemical agent that speeds up a reaction without being consumed by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E64F-626E-4D19-B1F8-0BF55D3F7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talytic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213F-C87D-46C2-A9D8-9D09F9351A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Activation Barri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chemical reaction between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both bond breaking and bond f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5DF-D462-47DD-A1BA-E2AE853886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dr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xample of a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37680" y="2870280"/>
            <a:ext cx="8526600" cy="2616480"/>
            <a:chOff x="337680" y="2870280"/>
            <a:chExt cx="8526600" cy="2616480"/>
          </a:xfrm>
        </p:grpSpPr>
        <p:sp>
          <p:nvSpPr>
            <p:cNvPr id="533" name=""/>
            <p:cNvSpPr/>
            <p:nvPr/>
          </p:nvSpPr>
          <p:spPr>
            <a:xfrm>
              <a:off x="398160" y="51811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37680" y="2870280"/>
              <a:ext cx="8526600" cy="2601720"/>
              <a:chOff x="337680" y="2870280"/>
              <a:chExt cx="8526600" cy="2601720"/>
            </a:xfrm>
          </p:grpSpPr>
          <p:pic>
            <p:nvPicPr>
              <p:cNvPr id="5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3110040"/>
                <a:ext cx="78487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157560" y="3421080"/>
                <a:ext cx="843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8880" y="3849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0120" y="3421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85560" y="3859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68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64960" y="34084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15480" y="3865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91840" y="3421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42840" y="3859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87080" y="34401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15840" y="30956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09960" y="30891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14200" y="31384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43600" y="3135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17576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440" y="3236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3180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125680" y="3165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78040" y="38466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87720" y="3440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24320" y="38466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92560" y="288144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84720" y="28702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79760" y="3492360"/>
                <a:ext cx="37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46560" y="35560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99320" y="3251160"/>
                <a:ext cx="649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cr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4160" y="3554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99040" y="3427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16080" y="3838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83040" y="3859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83240" y="50148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182440" y="3653640"/>
                <a:ext cx="6818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24320" y="34891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23480" y="2959920"/>
                <a:ext cx="6818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172000" y="31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67600" y="28702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68440" y="31543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140240" y="349560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199880" y="4479480"/>
                <a:ext cx="887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cr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238000" y="4449240"/>
                <a:ext cx="887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75040" y="439056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uct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54960" y="4746600"/>
                <a:ext cx="816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59680" y="4762440"/>
                <a:ext cx="718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82320" y="4765680"/>
                <a:ext cx="718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8440" y="344016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385960" y="32605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71920" y="3406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4640" y="3406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7877-098D-4390-ADBF-1D48963D2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1: An organism’s metabolism transforms matter and energy, subject to the laws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65C-6BD5-4FAB-8396-CE0786307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ation energy,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itial amount of energy needed to start a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supplied in the form of heat from the surroundings in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12A-9AD4-45A5-8386-6F90DDE27F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nergy profile for an exergonic rea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29640" y="2270160"/>
            <a:ext cx="6761880" cy="4283280"/>
            <a:chOff x="629640" y="2270160"/>
            <a:chExt cx="6761880" cy="4283280"/>
          </a:xfrm>
        </p:grpSpPr>
        <p:grpSp>
          <p:nvGrpSpPr>
            <p:cNvPr id="591" name=""/>
            <p:cNvGrpSpPr/>
            <p:nvPr/>
          </p:nvGrpSpPr>
          <p:grpSpPr>
            <a:xfrm>
              <a:off x="629640" y="2270160"/>
              <a:ext cx="6761880" cy="4283280"/>
              <a:chOff x="629640" y="2270160"/>
              <a:chExt cx="6761880" cy="42832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034000" y="2270160"/>
                <a:ext cx="5357520" cy="4122720"/>
                <a:chOff x="2034000" y="2270160"/>
                <a:chExt cx="5357520" cy="4122720"/>
              </a:xfrm>
            </p:grpSpPr>
            <p:pic>
              <p:nvPicPr>
                <p:cNvPr id="5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57400" y="2270160"/>
                  <a:ext cx="5334120" cy="412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"/>
                <p:cNvSpPr/>
                <p:nvPr/>
              </p:nvSpPr>
              <p:spPr>
                <a:xfrm rot="16200000">
                  <a:off x="1563120" y="4397040"/>
                  <a:ext cx="127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ree ener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44680" y="5979960"/>
                  <a:ext cx="23400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gress of the reac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534720" y="4890960"/>
                  <a:ext cx="854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∆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 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207680" y="3728160"/>
                  <a:ext cx="3985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629640" y="624780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8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515680" y="3757320"/>
              <a:ext cx="1099440" cy="1074600"/>
              <a:chOff x="2515680" y="3757320"/>
              <a:chExt cx="1099440" cy="1074600"/>
            </a:xfrm>
          </p:grpSpPr>
          <p:sp>
            <p:nvSpPr>
              <p:cNvPr id="600" name=""/>
              <p:cNvSpPr/>
              <p:nvPr/>
            </p:nvSpPr>
            <p:spPr>
              <a:xfrm>
                <a:off x="2576160" y="37684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60440" y="3757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6160" y="4160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73040" y="41493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15680" y="4496040"/>
                <a:ext cx="1099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acta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517920" y="2460240"/>
              <a:ext cx="1573560" cy="977400"/>
              <a:chOff x="3517920" y="2460240"/>
              <a:chExt cx="1573560" cy="977400"/>
            </a:xfrm>
          </p:grpSpPr>
          <p:sp>
            <p:nvSpPr>
              <p:cNvPr id="606" name=""/>
              <p:cNvSpPr/>
              <p:nvPr/>
            </p:nvSpPr>
            <p:spPr>
              <a:xfrm>
                <a:off x="3906720" y="24602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79720" y="28616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64000" y="2842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71560" y="24710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517920" y="3101760"/>
                <a:ext cx="1573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ransition 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744880" y="4692240"/>
              <a:ext cx="986760" cy="1262160"/>
              <a:chOff x="5744880" y="4692240"/>
              <a:chExt cx="986760" cy="126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5795280" y="47001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09640" y="46922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776200" y="5221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1720" y="5221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44880" y="5618520"/>
                <a:ext cx="986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1A9F-CEAB-4034-B560-580871F91C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ow Enzymes Lower the E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Barri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nzyme catalyzes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owering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A7B-BB33-46F4-BB4B-D7765C8D78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ffect of enzymes on reaction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80520" y="1428840"/>
            <a:ext cx="8003160" cy="4839120"/>
            <a:chOff x="380520" y="1428840"/>
            <a:chExt cx="8003160" cy="4839120"/>
          </a:xfrm>
        </p:grpSpPr>
        <p:grpSp>
          <p:nvGrpSpPr>
            <p:cNvPr id="624" name=""/>
            <p:cNvGrpSpPr/>
            <p:nvPr/>
          </p:nvGrpSpPr>
          <p:grpSpPr>
            <a:xfrm>
              <a:off x="1676520" y="1428840"/>
              <a:ext cx="6707160" cy="4800600"/>
              <a:chOff x="1676520" y="1428840"/>
              <a:chExt cx="6707160" cy="480060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428840"/>
                <a:ext cx="6707160" cy="480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6" name=""/>
              <p:cNvGrpSpPr/>
              <p:nvPr/>
            </p:nvGrpSpPr>
            <p:grpSpPr>
              <a:xfrm>
                <a:off x="1821240" y="1670040"/>
                <a:ext cx="6071040" cy="4398480"/>
                <a:chOff x="1821240" y="1670040"/>
                <a:chExt cx="6071040" cy="43984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3649680" y="5732640"/>
                  <a:ext cx="23400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gress of the reac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014880" y="5146920"/>
                  <a:ext cx="986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du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342520" y="1670040"/>
                  <a:ext cx="8906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urse of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ou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192840" y="1828800"/>
                  <a:ext cx="639720" cy="253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946600" y="3005280"/>
                  <a:ext cx="743040" cy="10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01120" y="3141720"/>
                  <a:ext cx="873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a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75720" y="3979800"/>
                  <a:ext cx="10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urse of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113800" y="1829880"/>
                  <a:ext cx="3726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110200" y="2149560"/>
                  <a:ext cx="7200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o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172280" y="2486160"/>
                  <a:ext cx="720000" cy="66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A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s low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436440" y="3957480"/>
                  <a:ext cx="13507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∆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is unaffecte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y 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1350360" y="3686760"/>
                  <a:ext cx="127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ree ener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" name=""/>
            <p:cNvSpPr/>
            <p:nvPr/>
          </p:nvSpPr>
          <p:spPr>
            <a:xfrm>
              <a:off x="380520" y="59623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47E-1A23-41D4-931A-70C00EA693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ubstrate Specificity of Enzy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ub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actant an enzyme act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s to its substrate, forming an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5F7-A9C4-4C10-9ED8-1A9242AE6E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e 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gion on the enzyme where the substrate b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37080" y="2819520"/>
            <a:ext cx="4487400" cy="3429360"/>
            <a:chOff x="1837080" y="2819520"/>
            <a:chExt cx="4487400" cy="3429360"/>
          </a:xfrm>
        </p:grpSpPr>
        <p:sp>
          <p:nvSpPr>
            <p:cNvPr id="647" name=""/>
            <p:cNvSpPr/>
            <p:nvPr/>
          </p:nvSpPr>
          <p:spPr>
            <a:xfrm>
              <a:off x="1837080" y="59432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129120" y="2819520"/>
              <a:ext cx="3195360" cy="3429360"/>
              <a:chOff x="3129120" y="2819520"/>
              <a:chExt cx="3195360" cy="3429360"/>
            </a:xfrm>
          </p:grpSpPr>
          <p:pic>
            <p:nvPicPr>
              <p:cNvPr id="6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2819520"/>
                <a:ext cx="3084480" cy="30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3287160" y="290952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ubst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2560" y="3976560"/>
                <a:ext cx="1078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ctive 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248000" y="4141800"/>
                <a:ext cx="533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24400" y="548604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29120" y="594324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63720" y="3181320"/>
                <a:ext cx="0" cy="2286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EA9-1A0F-4BA8-B621-FC5D385421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ced fit of a sub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chemical groups of the active site into positions that enhance their ability to catalyze the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811880" y="2990880"/>
            <a:ext cx="4345560" cy="3410280"/>
            <a:chOff x="1811880" y="2990880"/>
            <a:chExt cx="4345560" cy="3410280"/>
          </a:xfrm>
        </p:grpSpPr>
        <p:sp>
          <p:nvSpPr>
            <p:cNvPr id="660" name=""/>
            <p:cNvSpPr/>
            <p:nvPr/>
          </p:nvSpPr>
          <p:spPr>
            <a:xfrm>
              <a:off x="1811880" y="60955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3047760" y="2990880"/>
              <a:ext cx="3109680" cy="30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2" name=""/>
            <p:cNvGrpSpPr/>
            <p:nvPr/>
          </p:nvGrpSpPr>
          <p:grpSpPr>
            <a:xfrm>
              <a:off x="2993760" y="5522040"/>
              <a:ext cx="2952360" cy="869400"/>
              <a:chOff x="2993760" y="5522040"/>
              <a:chExt cx="2952360" cy="869400"/>
            </a:xfrm>
          </p:grpSpPr>
          <p:sp>
            <p:nvSpPr>
              <p:cNvPr id="663" name=""/>
              <p:cNvSpPr/>
              <p:nvPr/>
            </p:nvSpPr>
            <p:spPr>
              <a:xfrm>
                <a:off x="2993760" y="608580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76000" y="5522040"/>
                <a:ext cx="1770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zyme- 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41DF-D184-46D5-ACC3-9C17069187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atalysis in the Enzyme’s Active Sit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 enzymatic re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trate binds to the activ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85D7-6CF6-4587-B12C-DF764F6BBE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talytic cycle of 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58400" y="1212120"/>
            <a:ext cx="9028800" cy="5265360"/>
            <a:chOff x="-158400" y="1212120"/>
            <a:chExt cx="9028800" cy="5265360"/>
          </a:xfrm>
        </p:grpSpPr>
        <p:grpSp>
          <p:nvGrpSpPr>
            <p:cNvPr id="672" name=""/>
            <p:cNvGrpSpPr/>
            <p:nvPr/>
          </p:nvGrpSpPr>
          <p:grpSpPr>
            <a:xfrm>
              <a:off x="1299240" y="1770120"/>
              <a:ext cx="4137840" cy="4707360"/>
              <a:chOff x="1299240" y="1770120"/>
              <a:chExt cx="4137840" cy="4707360"/>
            </a:xfrm>
          </p:grpSpPr>
          <p:pic>
            <p:nvPicPr>
              <p:cNvPr id="6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36560" y="1770120"/>
                <a:ext cx="3800520" cy="444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1299240" y="2823840"/>
                <a:ext cx="1105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bstr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42880" y="6171840"/>
                <a:ext cx="95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02040" y="465588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93280" y="2899800"/>
                <a:ext cx="17197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zyme-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15080" y="1212120"/>
              <a:ext cx="3370320" cy="1243800"/>
              <a:chOff x="415080" y="1212120"/>
              <a:chExt cx="3370320" cy="1243800"/>
            </a:xfrm>
          </p:grpSpPr>
          <p:sp>
            <p:nvSpPr>
              <p:cNvPr id="679" name=""/>
              <p:cNvSpPr/>
              <p:nvPr/>
            </p:nvSpPr>
            <p:spPr>
              <a:xfrm>
                <a:off x="488880" y="1936800"/>
                <a:ext cx="295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415080" y="1212120"/>
                <a:ext cx="3370320" cy="1243800"/>
                <a:chOff x="415080" y="1212120"/>
                <a:chExt cx="3370320" cy="124380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415080" y="1212120"/>
                  <a:ext cx="3370320" cy="731880"/>
                  <a:chOff x="415080" y="1212120"/>
                  <a:chExt cx="3370320" cy="73188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514800" y="1246680"/>
                    <a:ext cx="221760" cy="221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255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15080" y="1212120"/>
                    <a:ext cx="3370320" cy="73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 Substrates enter active site; enzym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changes shape so its active si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mbraces the substrates (induced fit)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>
                  <a:off x="2770200" y="1936800"/>
                  <a:ext cx="517680" cy="519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" name=""/>
            <p:cNvGrpSpPr/>
            <p:nvPr/>
          </p:nvGrpSpPr>
          <p:grpSpPr>
            <a:xfrm>
              <a:off x="4062240" y="1344960"/>
              <a:ext cx="3405960" cy="1222200"/>
              <a:chOff x="4062240" y="1344960"/>
              <a:chExt cx="3405960" cy="1222200"/>
            </a:xfrm>
          </p:grpSpPr>
          <p:sp>
            <p:nvSpPr>
              <p:cNvPr id="686" name=""/>
              <p:cNvSpPr/>
              <p:nvPr/>
            </p:nvSpPr>
            <p:spPr>
              <a:xfrm>
                <a:off x="5667480" y="1406520"/>
                <a:ext cx="222120" cy="2221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601960" y="1344960"/>
                <a:ext cx="186624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Substrates held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ve site by wea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actions, such 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ydrogen bond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onic bond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30760" y="1382760"/>
                <a:ext cx="0" cy="118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062240" y="1703160"/>
                <a:ext cx="1568520" cy="61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337000" y="2602440"/>
              <a:ext cx="3533400" cy="2679120"/>
              <a:chOff x="5337000" y="2602440"/>
              <a:chExt cx="3533400" cy="2679120"/>
            </a:xfrm>
          </p:grpSpPr>
          <p:sp>
            <p:nvSpPr>
              <p:cNvPr id="691" name=""/>
              <p:cNvSpPr/>
              <p:nvPr/>
            </p:nvSpPr>
            <p:spPr>
              <a:xfrm>
                <a:off x="6269040" y="2689200"/>
                <a:ext cx="222120" cy="2221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37720" y="2602440"/>
                <a:ext cx="2632680" cy="267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Active site (and R groups 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ts amino acids) can lower 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speed up a reaction b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ng as a template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 orientation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essing the substr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stabilizing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ition state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viding a favor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icroenvironmen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articipating directly in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talytic reaction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24760" y="2738520"/>
                <a:ext cx="0" cy="236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337000" y="3107880"/>
                <a:ext cx="887760" cy="297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522680" y="4776840"/>
              <a:ext cx="2044440" cy="1680480"/>
              <a:chOff x="4522680" y="4776840"/>
              <a:chExt cx="2044440" cy="1680480"/>
            </a:xfrm>
          </p:grpSpPr>
          <p:sp>
            <p:nvSpPr>
              <p:cNvPr id="696" name=""/>
              <p:cNvSpPr/>
              <p:nvPr/>
            </p:nvSpPr>
            <p:spPr>
              <a:xfrm>
                <a:off x="4989600" y="5699160"/>
                <a:ext cx="1257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22680" y="4776840"/>
                <a:ext cx="1059120" cy="92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989600" y="5759280"/>
                <a:ext cx="222120" cy="2224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69440" y="5725440"/>
                <a:ext cx="15976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Substrates ar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verted i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duct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1322280" y="5272200"/>
              <a:ext cx="2508480" cy="803880"/>
              <a:chOff x="1322280" y="5272200"/>
              <a:chExt cx="2508480" cy="80388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322280" y="5557320"/>
                <a:ext cx="1448280" cy="518760"/>
                <a:chOff x="1322280" y="5557320"/>
                <a:chExt cx="1448280" cy="518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396440" y="5605200"/>
                  <a:ext cx="221400" cy="22248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22280" y="5557320"/>
                  <a:ext cx="14482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Products 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eleased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"/>
              <p:cNvSpPr/>
              <p:nvPr/>
            </p:nvSpPr>
            <p:spPr>
              <a:xfrm flipH="1">
                <a:off x="2770200" y="5272200"/>
                <a:ext cx="1060560" cy="57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-158400" y="3732840"/>
              <a:ext cx="2577600" cy="945000"/>
              <a:chOff x="-158400" y="3732840"/>
              <a:chExt cx="2577600" cy="9450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-158400" y="3732840"/>
                <a:ext cx="2539800" cy="945000"/>
                <a:chOff x="-158400" y="3732840"/>
                <a:chExt cx="2539800" cy="94500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29040" y="3775320"/>
                  <a:ext cx="221760" cy="22176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-158400" y="3732840"/>
                  <a:ext cx="253980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Active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 available f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wo new substr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l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833480" y="3824280"/>
                <a:ext cx="0" cy="81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7360" y="4145040"/>
                <a:ext cx="59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40720" y="61290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B4AF-9405-4E9A-BE56-F0F38E2F3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e site can lower an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arrier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ing substrate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ing substrat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favorable micro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ly bonding to the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586-AC7C-4F9C-A1AA-58A8F62CF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otality of an organism’s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interactions betwee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C6B-2AE2-4CB5-A067-CA1BCE5812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Local Conditions on Enzyme Activ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ity of 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ffected by general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9CE-A5E4-488F-A112-BB25774373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ffects of Temperature and p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optimal temperature in which it c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73440" y="2758320"/>
            <a:ext cx="7408440" cy="3325320"/>
            <a:chOff x="973440" y="2758320"/>
            <a:chExt cx="7408440" cy="3325320"/>
          </a:xfrm>
        </p:grpSpPr>
        <p:sp>
          <p:nvSpPr>
            <p:cNvPr id="722" name=""/>
            <p:cNvSpPr/>
            <p:nvPr/>
          </p:nvSpPr>
          <p:spPr>
            <a:xfrm>
              <a:off x="973440" y="57780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362320" y="2758320"/>
              <a:ext cx="6019560" cy="3261240"/>
              <a:chOff x="2362320" y="2758320"/>
              <a:chExt cx="6019560" cy="326124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2781000"/>
                <a:ext cx="6019560" cy="32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5568480" y="2758320"/>
                <a:ext cx="2120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timal temperature f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zyme of thermophil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6200000">
                <a:off x="1967400" y="3993480"/>
                <a:ext cx="1446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te of rea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5680" y="51177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673440" y="511956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249800" y="5130720"/>
                <a:ext cx="812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85160" y="511488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06680" y="512424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50240" y="5263920"/>
                <a:ext cx="1369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mperature (Cº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25200" y="5402160"/>
                <a:ext cx="3146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Optimal temperature for two enzy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92320" y="2758320"/>
                <a:ext cx="2070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timal temperature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ypical human 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552000" y="3242520"/>
                <a:ext cx="1356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heat-tolerant)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4495680" y="3293640"/>
                <a:ext cx="0" cy="152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83360" y="3281040"/>
                <a:ext cx="0" cy="152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637-7E80-4CA2-BA5E-3823763E9B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optimal pH in which it c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240200" y="1873080"/>
            <a:ext cx="6532200" cy="3842280"/>
            <a:chOff x="1240200" y="1873080"/>
            <a:chExt cx="6532200" cy="3842280"/>
          </a:xfrm>
        </p:grpSpPr>
        <p:sp>
          <p:nvSpPr>
            <p:cNvPr id="742" name=""/>
            <p:cNvSpPr/>
            <p:nvPr/>
          </p:nvSpPr>
          <p:spPr>
            <a:xfrm>
              <a:off x="1240200" y="54097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1370160" y="1873080"/>
              <a:ext cx="640224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 rot="16200000">
              <a:off x="1014840" y="3178800"/>
              <a:ext cx="144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te of re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67520" y="4544640"/>
              <a:ext cx="2861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Optimal pH for two enzy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53600" y="1980360"/>
              <a:ext cx="1962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mal pH for peps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tomach enzy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53600" y="2014920"/>
              <a:ext cx="10767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mal p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 tryps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ntest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34680" y="43300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04400" y="43048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71080" y="43048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04600" y="4291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37760" y="4291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5720" y="42667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7924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2536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888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9204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048120" y="2476440"/>
              <a:ext cx="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943240" y="2323800"/>
              <a:ext cx="304920" cy="15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9A0-0EC4-4A4D-AFE2-3170653AB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ofac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nprotein enzyme hel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enzy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rganic co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916-BB02-429F-97C7-0EDAF50E99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nzyme Inhibi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etitive inhibi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nd to the active site of an enzyme, competing with the subst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518840" y="2158920"/>
            <a:ext cx="4772880" cy="4318560"/>
            <a:chOff x="1518840" y="2158920"/>
            <a:chExt cx="4772880" cy="4318560"/>
          </a:xfrm>
        </p:grpSpPr>
        <p:sp>
          <p:nvSpPr>
            <p:cNvPr id="767" name=""/>
            <p:cNvSpPr/>
            <p:nvPr/>
          </p:nvSpPr>
          <p:spPr>
            <a:xfrm>
              <a:off x="1798920" y="61718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1518840" y="2158920"/>
              <a:ext cx="4772880" cy="4312800"/>
              <a:chOff x="1518840" y="2158920"/>
              <a:chExt cx="4772880" cy="431280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2071440" y="4476600"/>
                <a:ext cx="4141440" cy="1995120"/>
                <a:chOff x="2071440" y="4476600"/>
                <a:chExt cx="4141440" cy="1995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350160" y="6196680"/>
                  <a:ext cx="2022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 Competitive inhib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2071440" y="4476600"/>
                  <a:ext cx="4141440" cy="1752120"/>
                  <a:chOff x="2071440" y="4476600"/>
                  <a:chExt cx="4141440" cy="1752120"/>
                </a:xfrm>
              </p:grpSpPr>
              <p:pic>
                <p:nvPicPr>
                  <p:cNvPr id="77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811680" y="4476600"/>
                    <a:ext cx="1193760" cy="175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3" name=""/>
                  <p:cNvSpPr/>
                  <p:nvPr/>
                </p:nvSpPr>
                <p:spPr>
                  <a:xfrm>
                    <a:off x="2071440" y="4733280"/>
                    <a:ext cx="1605240" cy="82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competiti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hibitor mimics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strate, compet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or the active site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221800" y="4914000"/>
                    <a:ext cx="99108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ompetiti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hibit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671640" y="4763520"/>
                    <a:ext cx="0" cy="76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671640" y="5098680"/>
                    <a:ext cx="738360" cy="77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486320" y="5085720"/>
                    <a:ext cx="761760" cy="63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7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3440" y="2433240"/>
                <a:ext cx="1085760" cy="17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 flipV="1">
                <a:off x="4791240" y="2396520"/>
                <a:ext cx="691920" cy="207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18840" y="2158920"/>
                <a:ext cx="15199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substrate c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ind normally to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 of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10800" y="2256840"/>
                <a:ext cx="840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bst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10080" y="2710800"/>
                <a:ext cx="881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75360" y="3558600"/>
                <a:ext cx="736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33720" y="215892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67120" y="36968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3033720" y="2620800"/>
                <a:ext cx="1523880" cy="15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4695480" y="2876400"/>
                <a:ext cx="76212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53400" y="4201560"/>
                <a:ext cx="1575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Normal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BB59-9F1B-4485-93C5-BFB8ACD0B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competitive inhib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another part of an enzyme, changing th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257200" y="2800440"/>
            <a:ext cx="3921480" cy="2762640"/>
            <a:chOff x="2257200" y="2800440"/>
            <a:chExt cx="3921480" cy="2762640"/>
          </a:xfrm>
        </p:grpSpPr>
        <p:sp>
          <p:nvSpPr>
            <p:cNvPr id="793" name=""/>
            <p:cNvSpPr/>
            <p:nvPr/>
          </p:nvSpPr>
          <p:spPr>
            <a:xfrm>
              <a:off x="2343600" y="5257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2257200" y="2800440"/>
              <a:ext cx="3921480" cy="2740320"/>
              <a:chOff x="2257200" y="2800440"/>
              <a:chExt cx="3921480" cy="2740320"/>
            </a:xfrm>
          </p:grpSpPr>
          <p:pic>
            <p:nvPicPr>
              <p:cNvPr id="7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7880" y="2800440"/>
                <a:ext cx="1219320" cy="19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2257200" y="3267000"/>
                <a:ext cx="170748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noncompeti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hibitor binds to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 away f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active site, alte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conformation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enzyme so that 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 no lon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362840" y="4986360"/>
                <a:ext cx="1815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ncompetitive inhibi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27000" y="5265720"/>
                <a:ext cx="2286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c) Noncompetitive inhib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59280" y="4208400"/>
                <a:ext cx="552600" cy="41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92800" y="4699080"/>
                <a:ext cx="0" cy="304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59280" y="3355920"/>
                <a:ext cx="0" cy="13716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0BA-D58E-462E-8FBA-3307BB28A4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5: Regulation of enzyme activity helps control 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’s me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ightly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6A64-C514-4E20-BF2A-2DF64CE3C5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steric Regulation of Enzy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erm used to describe any case in which a protein’s function at one site is affected by binding of a regulatory molecule at anoth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7A2-AA17-4373-A495-1120CFFA10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llosteric Activation and Inhib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enzymes are allosterically regul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376-25B0-4D96-B821-1D446988CD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hange shape when regulatory molecules bind to specific sites, affecting fun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278360" y="1390680"/>
            <a:ext cx="6895080" cy="5158080"/>
            <a:chOff x="1278360" y="1390680"/>
            <a:chExt cx="6895080" cy="5158080"/>
          </a:xfrm>
        </p:grpSpPr>
        <p:grpSp>
          <p:nvGrpSpPr>
            <p:cNvPr id="815" name=""/>
            <p:cNvGrpSpPr/>
            <p:nvPr/>
          </p:nvGrpSpPr>
          <p:grpSpPr>
            <a:xfrm>
              <a:off x="2594880" y="1390680"/>
              <a:ext cx="5578560" cy="5146200"/>
              <a:chOff x="2594880" y="1390680"/>
              <a:chExt cx="5578560" cy="514620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2594880" y="1390680"/>
                <a:ext cx="5578560" cy="5146200"/>
                <a:chOff x="2594880" y="1390680"/>
                <a:chExt cx="5578560" cy="51462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5447880" y="5331960"/>
                  <a:ext cx="15109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d inactive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311080" y="1390680"/>
                  <a:ext cx="160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activate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s active fr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1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30760" y="2145600"/>
                  <a:ext cx="2569680" cy="325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0" name=""/>
                <p:cNvSpPr/>
                <p:nvPr/>
              </p:nvSpPr>
              <p:spPr>
                <a:xfrm>
                  <a:off x="2971440" y="1601280"/>
                  <a:ext cx="1381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enyzm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four subuni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357800" y="1623960"/>
                  <a:ext cx="1018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 sit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one of fou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920320" y="2656080"/>
                  <a:ext cx="9241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ulatory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e (on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f fou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850560" y="3206520"/>
                  <a:ext cx="1024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618080" y="3026520"/>
                  <a:ext cx="779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188680" y="3222000"/>
                  <a:ext cx="17564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d 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026680" y="3593880"/>
                  <a:ext cx="160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activate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s 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723560" y="5314320"/>
                  <a:ext cx="729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hibi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707640" y="5368680"/>
                  <a:ext cx="11361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027960" y="5278320"/>
                  <a:ext cx="8402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n-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unctional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594880" y="6079320"/>
                  <a:ext cx="55785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 Allosteric activators and inhibitors.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In the cell, activators and inhibitors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dissociate when at low concentrations. The enzyme can then oscillate agai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3428280" y="2586960"/>
                  <a:ext cx="426240" cy="141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591360" y="2044800"/>
                  <a:ext cx="42624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4645080" y="2044440"/>
                  <a:ext cx="284040" cy="284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438520" y="1831680"/>
                  <a:ext cx="135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722920" y="1831680"/>
                  <a:ext cx="21312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188320" y="4005000"/>
                  <a:ext cx="1278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640120" y="3999240"/>
                  <a:ext cx="28368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3466800" y="5284080"/>
                  <a:ext cx="568440" cy="163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3462840" y="3884040"/>
                <a:ext cx="88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scil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1278360" y="62431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678-A47E-4C9E-9722-3D19C0037A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rganization of the Chemistry of Life into Metabolic Pathway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tabolic pathway has many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egin with a specific molecule and end with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re each catalyzed by a specific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17160" y="4723920"/>
            <a:ext cx="6500880" cy="1233000"/>
            <a:chOff x="1217160" y="4723920"/>
            <a:chExt cx="6500880" cy="12330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1343160" y="4724280"/>
              <a:ext cx="624996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99260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084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596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28840" y="498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4760" y="5009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40160" y="5000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34120" y="498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9872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696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560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17160" y="5438160"/>
              <a:ext cx="89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17400" y="5442840"/>
              <a:ext cx="800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515-D6CB-46D4-8458-A0A926A0D0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pera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orm of allosteric regulation that can amplify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73440" y="2388600"/>
            <a:ext cx="7316640" cy="3979440"/>
            <a:chOff x="973440" y="2388600"/>
            <a:chExt cx="7316640" cy="3979440"/>
          </a:xfrm>
        </p:grpSpPr>
        <p:sp>
          <p:nvSpPr>
            <p:cNvPr id="845" name=""/>
            <p:cNvSpPr/>
            <p:nvPr/>
          </p:nvSpPr>
          <p:spPr>
            <a:xfrm>
              <a:off x="973440" y="60624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2182680" y="2388600"/>
              <a:ext cx="6107400" cy="3965400"/>
              <a:chOff x="2182680" y="2388600"/>
              <a:chExt cx="6107400" cy="3965400"/>
            </a:xfrm>
          </p:grpSpPr>
          <p:pic>
            <p:nvPicPr>
              <p:cNvPr id="8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31880" y="3870360"/>
                <a:ext cx="289584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3392640" y="2388600"/>
                <a:ext cx="30762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nding of one substrate molecule to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ve site of one subunit lock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 subunits in active conformation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00200" y="3596760"/>
                <a:ext cx="950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51520" y="5151240"/>
                <a:ext cx="129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active 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880520" y="5165280"/>
                <a:ext cx="202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bilized active 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82680" y="5622120"/>
                <a:ext cx="6107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operativity: another type of allosteric activation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Note that th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inactive form shown on the left oscillates back and forth with the activ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form when the active form is not stabilized by substrate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90920" y="3138480"/>
                <a:ext cx="28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052960" y="3151080"/>
                <a:ext cx="30456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6FAF-5EF1-471D-8F9C-13A473B369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eedback Inhib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eedback inhib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product of a metabolic pathway shuts down the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B0F7-5F98-4C49-AED9-345C38142D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inhib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936440" y="1143000"/>
            <a:ext cx="4998240" cy="5181840"/>
            <a:chOff x="1936440" y="1143000"/>
            <a:chExt cx="4998240" cy="5181840"/>
          </a:xfrm>
        </p:grpSpPr>
        <p:grpSp>
          <p:nvGrpSpPr>
            <p:cNvPr id="862" name=""/>
            <p:cNvGrpSpPr/>
            <p:nvPr/>
          </p:nvGrpSpPr>
          <p:grpSpPr>
            <a:xfrm>
              <a:off x="2982600" y="1143000"/>
              <a:ext cx="3952080" cy="5181840"/>
              <a:chOff x="2982600" y="1143000"/>
              <a:chExt cx="3952080" cy="5181840"/>
            </a:xfrm>
          </p:grpSpPr>
          <p:pic>
            <p:nvPicPr>
              <p:cNvPr id="8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14800" y="1143000"/>
                <a:ext cx="3538440" cy="51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>
                <a:off x="4502160" y="1460520"/>
                <a:ext cx="7610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si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vail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93840" y="2419200"/>
                <a:ext cx="803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oleuc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ed up by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38080" y="3124080"/>
                <a:ext cx="7686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eedback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hib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982600" y="4510080"/>
                <a:ext cx="78840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oleucin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nds to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osteric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77240" y="3181320"/>
                <a:ext cx="943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site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1 no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nger bind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eonine;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thway i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itched 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00760" y="1203120"/>
                <a:ext cx="1033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itial substr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threonin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43600" y="1693800"/>
                <a:ext cx="8798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eon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active s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2920" y="2165400"/>
                <a:ext cx="8449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1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threon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aminas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214960" y="2895480"/>
                <a:ext cx="1005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229360" y="3612960"/>
                <a:ext cx="1005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214960" y="4344840"/>
                <a:ext cx="1012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29360" y="5019480"/>
                <a:ext cx="1012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4280" y="321444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25720" y="391932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7160" y="462420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28960" y="532908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64840" y="5927760"/>
                <a:ext cx="8661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d product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isoleucin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4314600" y="1663560"/>
                <a:ext cx="22860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903840" y="3298680"/>
                <a:ext cx="533520" cy="36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400200" y="4257720"/>
                <a:ext cx="168120" cy="31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658120" y="230004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5721480" y="18475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936440" y="5943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2BD4-51A8-4AE3-A043-07419C8EA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pecific Localization of Enzymes Within the Cell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the cell, enzymes may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d into comp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d into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690-8400-48F7-9AFF-6B289F4C1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inside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567800" y="1944000"/>
            <a:ext cx="6434640" cy="4047840"/>
            <a:chOff x="1567800" y="1944000"/>
            <a:chExt cx="6434640" cy="4047840"/>
          </a:xfrm>
        </p:grpSpPr>
        <p:grpSp>
          <p:nvGrpSpPr>
            <p:cNvPr id="894" name=""/>
            <p:cNvGrpSpPr/>
            <p:nvPr/>
          </p:nvGrpSpPr>
          <p:grpSpPr>
            <a:xfrm>
              <a:off x="1600200" y="1944000"/>
              <a:ext cx="6402240" cy="3984120"/>
              <a:chOff x="1600200" y="1944000"/>
              <a:chExt cx="6402240" cy="3984120"/>
            </a:xfrm>
          </p:grpSpPr>
          <p:pic>
            <p:nvPicPr>
              <p:cNvPr id="8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200" y="2236680"/>
                <a:ext cx="6402240" cy="36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3939480" y="5622480"/>
                <a:ext cx="584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µ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638000" y="1944000"/>
                <a:ext cx="2478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itochondria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tes of cellular respira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3352320" y="2549520"/>
                <a:ext cx="236520" cy="106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81280" y="2562120"/>
                <a:ext cx="1752480" cy="18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1567800" y="56862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2B55-4D62-4DA3-9C6A-9D520BD23D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1C7-B3CE-4055-B2F9-B1C95A426A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mplicated molecules from simpler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DF9-F873-4D9B-9221-1F98E485F7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orms of Energ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apacity to caus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in various forms, of which some can perfor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B2F-EBE9-44CF-93AB-7125089EF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0-29T22:36:36Z</cp:lastPrinted>
  <dcterms:modified xsi:type="dcterms:W3CDTF">2006-10-02T20:34:40Z</dcterms:modified>
  <cp:revision>2126</cp:revision>
  <dc:subject/>
  <dc:title>video slide</dc:title>
</cp:coreProperties>
</file>